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E64-26D5-428E-82F3-171E6947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049-EF99-401B-9527-81B394F6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187-66DA-4D73-B470-91B31DD2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F82-DCCE-4BCC-908C-1409BE24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D69A-5B13-494A-BAA8-FEE3073F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0B75-D22A-4BAC-B6D6-2C8E438A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2255-9D7B-44EA-A968-FFA7F16A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0C1C-2D4C-478E-B9AF-7BAFE1FB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B737-190D-4CF7-9304-C44D0ED4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9015-678E-4449-BA3E-A7EA2E7F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E9E5-8BC6-401E-81A5-E569EED1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A8C-C8BC-4183-84AA-03830A37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26B6-B0C4-4FB5-BDE3-A2574786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D3D8-4D7C-4129-A284-B2ABF189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4A06-DD15-43B2-995F-60FB56F3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5C51-1F89-4000-9D32-37C6F816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E659-2836-456F-866D-8E639593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AC4B7-BC5E-49B4-9A62-6BD47706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9167C-BF04-4F8F-9A1E-E28F5562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80F4C-F6ED-4368-B450-E21C5FCF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29BEB-9C28-41B9-B3D5-9FA1B5F8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3A202-A491-47DD-A5FB-5B9DEF06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8C9-6EF3-4177-AC06-C923D4D4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67E96-41FA-4B71-A96C-FCEBF9DC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6401C-4766-4491-8955-05B2177A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DEDC6-6058-47C6-B896-03489036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C8AF4-EF33-4C2E-9D3A-8A435960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9DC74-AB3D-4209-BE86-1DFDE9DD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4ED47-6582-4122-9777-62F474C9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296C8-D8A2-432E-B37C-1B87E849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00BBD-7B3B-4CEF-AAA9-7A0CACA2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FE368-AAE2-47D1-A585-24F0FD48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10CB5-34EE-47AA-90C0-78A3EDDC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8D3-90CE-42B5-B3F8-9C7AA7DC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C12B6-3EFA-41A6-94E3-A0C180C2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E9D41-69AC-43B2-B746-4AD9CA31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195F2-6ECD-4AD4-9EAE-B42965E7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C449C-F78B-4A9E-8211-CB343923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095C1-3A92-44D7-8DE7-7DA29174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A9AB-C5D2-4112-BDA4-C1323A3A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C2A0B-E2A1-41BE-910B-7D08A956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9DCE5-CE60-4C9E-B7EE-CC4951DA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4961D-4B81-449F-A410-70C34D0E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26AEF-A50C-4D47-92DA-58510AE6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D4C-5977-418F-87D0-4419CCA6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0EED54-5F6F-47E1-9839-FC6C4919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DC4FB-1370-42CD-BA97-FA815369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EAAF0-0B7D-45B9-8BB8-07C9ECC1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54874-8694-4CA9-9E9A-65FE457D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471B0-56A4-454D-A16D-034BA5DF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B5DCA-AB0A-4A7E-BFE8-AAA770A8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EA2EC7-6BFF-4DC0-B572-55358558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6046D3-655F-45BD-A005-3F24016C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5F1EF-F00A-4E50-B9AD-709D053B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90EF4E-2CCC-437B-A3E0-9947ACA5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9449-9F3C-4717-BF7B-63CEC27F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4A6F1-6E90-4ED6-839C-AEE22316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A416B3-072C-406E-977E-692B9844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89749-C94E-4046-AF03-69B6A07F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94EB68-F31F-4357-825E-EB5EFC63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7CCA5-BBFD-4F4E-A6D1-1C129A1A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86321-4D7A-49B6-88CF-93EFC943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4A106D-6313-4342-89E2-AE3799CC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2AC57E-1A0A-4036-B939-3F4ABC96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6B3FE-511D-4E36-9787-01CB0908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449DD8-1166-4902-AD08-4DE0CDBC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1DF2-1238-456F-8B66-150D66BC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9B9EF3-3AF6-4F7D-A42E-52001BD3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40887-C447-4FD1-B381-F3389481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3B42CA-6952-492B-A35A-26594C1D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4BFB8-9F2C-4750-ACC5-D41A6BAE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ADED91-7A10-40FA-8585-3C8C1C0C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51DC05-5A90-47CC-94A4-B2E1BB4A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3771B9-84A3-4812-9392-D369B6B6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AB4647-17F1-45A8-83CF-1EFCACBC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BADB8-E953-45F4-A33B-11CEFFF7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2D8790-1C4B-45AE-BBBD-B3AB5A5C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5AF-842A-45FE-A22B-8B88BD7F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72D2FB-611C-4FEA-B8C0-22B6296F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B8E725-4DE6-46A2-B981-F573665C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46F012-4669-4F09-9B6E-E6908D4F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473786-9BC5-411A-824E-B10AA77E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81646-0AA1-4302-88ED-2B5A0025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43D-1029-4CEE-80D1-6297D776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f271c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C8955-97AA-4CD4-9E1C-D6D6CCC02C4D}" type="datetime">
              <a:rPr b="0" lang="en-US" sz="1200" spc="-1" strike="noStrike">
                <a:solidFill>
                  <a:srgbClr val="4f271c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1EC64-1A34-4A01-81CF-DE986CF5F3C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f271c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FF651-74EA-4701-A3E8-CF15F8BB817E}" type="datetime">
              <a:rPr b="0" lang="en-US" sz="1200" spc="-1" strike="noStrike">
                <a:solidFill>
                  <a:srgbClr val="4f271c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A832A-2A84-42A7-A555-1DD1521E3B5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f271c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3CF3D-3368-4B09-B7DB-A3FFAEE8CF78}" type="datetime">
              <a:rPr b="0" lang="en-US" sz="1200" spc="-1" strike="noStrike">
                <a:solidFill>
                  <a:srgbClr val="4f271c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90097-D18E-4D64-9390-25DD17F5DCB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dec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7dec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e7dec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FB011-5D79-4888-AFCF-C6D7542ABC0C}" type="datetime">
              <a:rPr b="0" lang="en-US" sz="1200" spc="-1" strike="noStrike">
                <a:solidFill>
                  <a:srgbClr val="e7dec9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64C67-0CB6-429A-B667-C314FD241D6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f271c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2709F-7105-4835-9B79-2B2C08F56FE9}" type="datetime">
              <a:rPr b="0" lang="en-US" sz="1200" spc="-1" strike="noStrike">
                <a:solidFill>
                  <a:srgbClr val="4f271c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8B5CB-2BE1-4B09-A463-70372DE41A0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f271c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699BB-BE7D-4671-AA6D-91C6A7599AFE}" type="datetime">
              <a:rPr b="0" lang="en-US" sz="1200" spc="-1" strike="noStrike">
                <a:solidFill>
                  <a:srgbClr val="4f271c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3DB36-C941-491F-8E02-0EA12E45F92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f271c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EE485-C63E-4188-BF68-4ACF551F7852}" type="datetime">
              <a:rPr b="0" lang="en-US" sz="1200" spc="-1" strike="noStrike">
                <a:solidFill>
                  <a:srgbClr val="4f271c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8086B-D443-40D1-8698-B7A7278E731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f271c"/>
                </a:solidFill>
                <a:latin typeface="Century Schoolbook"/>
              </a:rPr>
              <a:t>6</a:t>
            </a:r>
            <a:r>
              <a:rPr b="1" lang="en-US" sz="4300" spc="-1" strike="noStrike" baseline="30000">
                <a:solidFill>
                  <a:srgbClr val="4f271c"/>
                </a:solidFill>
                <a:latin typeface="Century Schoolbook"/>
              </a:rPr>
              <a:t>TH</a:t>
            </a:r>
            <a:r>
              <a:rPr b="1" lang="en-US" sz="4300" spc="-1" strike="noStrike">
                <a:solidFill>
                  <a:srgbClr val="4f271c"/>
                </a:solidFill>
                <a:latin typeface="Century Schoolbook"/>
              </a:rPr>
              <a:t> GRADE </a:t>
            </a:r>
            <a:br>
              <a:rPr sz="4300"/>
            </a:br>
            <a:r>
              <a:rPr b="1" lang="en-US" sz="4300" spc="-1" strike="noStrike">
                <a:solidFill>
                  <a:srgbClr val="4f271c"/>
                </a:solidFill>
                <a:latin typeface="Century Schoolbook"/>
              </a:rPr>
              <a:t>SCIENCE FAIR:</a:t>
            </a:r>
            <a:br>
              <a:rPr sz="4300"/>
            </a:br>
            <a:br>
              <a:rPr sz="4300"/>
            </a:br>
            <a:r>
              <a:rPr b="1" lang="en-US" sz="4300" spc="-1" strike="noStrike">
                <a:solidFill>
                  <a:srgbClr val="4f271c"/>
                </a:solidFill>
                <a:latin typeface="Century Schoolbook"/>
              </a:rPr>
              <a:t>RESEARCHING WITH THE </a:t>
            </a:r>
            <a:r>
              <a:rPr b="1" lang="en-US" sz="4300" spc="-1" strike="noStrike" u="sng">
                <a:solidFill>
                  <a:srgbClr val="4f271c"/>
                </a:solidFill>
                <a:uFillTx/>
                <a:latin typeface="Century Schoolbook"/>
              </a:rPr>
              <a:t>INTERNET</a:t>
            </a:r>
            <a:endParaRPr b="0" lang="en-US" sz="43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FACTS ABOUT THE INTERNE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YONE can publish on the Interne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ou must evaluate a website to decide whether it is TRUSTWORTHY or not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ALUATE by examini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quality of the desig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purpose of the si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en it was last updat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f the author or host of the site is an expert or trustworthy source of informatio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 Schoolbook"/>
              </a:rPr>
              <a:t>DO NOT…</a:t>
            </a:r>
            <a:endParaRPr b="0" lang="en-US" sz="44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Use Google to find a website first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Use a Wikipedia articl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WEB DIRECTORIES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rnet Public Library (ipl2) - www.ipl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Stuff Works - www.howstuffworks.c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pen Directory Project - www.dmoz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ld Book Encyclopedia Online - Website suggestio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RESEARCH PLAN: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arch for a website on your topic using your keyword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valuate the website to decide if it is trustworthy and useful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py down its citation inform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reate a citation in MLA forma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ake notes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LETS BEGIN!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you can’t find a website raise your hand and we’ll use advanced search techniques to locate a good website for research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22:50:13Z</dcterms:created>
  <dc:creator>Paul Hummel</dc:creator>
  <dc:description/>
  <dc:language>en-US</dc:language>
  <cp:lastModifiedBy>Paul Hummel</cp:lastModifiedBy>
  <dcterms:modified xsi:type="dcterms:W3CDTF">2012-02-02T23:32:37Z</dcterms:modified>
  <cp:revision>8</cp:revision>
  <dc:subject/>
  <dc:title>6TH Grade  Science Fair:  Researching with  Internet</dc:title>
</cp:coreProperties>
</file>